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SPKGLISS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49D7-1705-4CEF-925F-44425EE8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98C3-F289-451B-996A-419FFC90B2F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C1A-5744-473F-BC1A-3BBA6C3D07A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B959-B5A5-4259-9DF6-922D2DACE51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4072-4600-4E76-92B2-59303EACA66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8776-BE80-4AD4-A923-8755AA6F5AC8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AC4-C2A7-4670-AB81-14CD4AA572C0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0B2-887F-4FCD-A8F2-FAA15A8F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34D-BCAA-457E-A7FE-7D67657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000-3048-4FF1-B3B4-E784267F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F3E-C770-44C8-B4BA-16E9518A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DCE-2C3B-4499-AA4B-104F3BB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726-15C0-48A6-9A8C-29F83B7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027-9EE8-4EDF-999B-CB856827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FD6-CBD6-46AD-936F-F522F4F3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552-B73B-4F37-9F05-8C6E74B4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3F3-8196-494B-AEEC-14E900C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83B-E532-43D4-A9D9-F27D3B6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F70-3423-4858-BF94-1483A009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WINDOWS\Desktop\PPT\glob4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238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6CF6-528B-4866-9332-C6A74731C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WINDOWS\Desktop\PPT\glo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1280" y="4495320"/>
            <a:ext cx="5181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that’s PEMDAS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t me see your Jazz Hands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Excuse My Dear Aunt S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 = Parenth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 = Expon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 = Multipl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 = Div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= Ad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 = Subtrac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orde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3124080"/>
            <a:ext cx="74678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re are 4 levels. Do the top levels firs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.  Parenthe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2. Expon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3. Multiply and divide, from left to righ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4. Add and subtract, from left to righ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4038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 + 2 x 6 - 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800600" y="1447920"/>
            <a:ext cx="4572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PEMDAS, multiply (and divide) comes before adding and subtractin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066680" y="3048120"/>
            <a:ext cx="3429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 + 12 - 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057400" y="251460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2819520" y="2514600"/>
            <a:ext cx="3808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876920" y="3276720"/>
            <a:ext cx="4114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, we just have adding and subtracting, so go left to righ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676520" y="4267080"/>
            <a:ext cx="2743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5 - 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1447920" y="3886200"/>
            <a:ext cx="4572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2362320" y="3886200"/>
            <a:ext cx="3045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057400" y="5410080"/>
            <a:ext cx="167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943600"/>
            <a:ext cx="39625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943600" y="5029200"/>
            <a:ext cx="2743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1752480"/>
            <a:ext cx="6172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 + (3 x 4) - 1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72200" y="2743200"/>
            <a:ext cx="297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entheses fir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19320" y="2895480"/>
            <a:ext cx="5029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 + 12 - 1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3429000"/>
            <a:ext cx="30481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, since we have adding and subtracting, just go left to righ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765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0 - 1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5181480"/>
            <a:ext cx="990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324480" y="5486400"/>
            <a:ext cx="3276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 flipH="1" flipV="1">
            <a:off x="3047760" y="5866920"/>
            <a:ext cx="525780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7200" y="1676520"/>
            <a:ext cx="723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6000" spc="-1" strike="noStrike" baseline="50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60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 (4 x 10)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71600" y="289548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6000" spc="-1" strike="noStrike" baseline="50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- 40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29200" y="3200400"/>
            <a:ext cx="4114800" cy="1827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w, the exponent comes first (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DAS). Remember, 3</a:t>
            </a:r>
            <a:r>
              <a:rPr b="0" lang="en-US" sz="2800" spc="-1" strike="noStrike" baseline="50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s 3 x 3 x 3 x 3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3809880"/>
            <a:ext cx="3962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1 - 40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029200" y="5257800"/>
            <a:ext cx="4114800" cy="13723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w we’re down to adding and subtracting, so go left to righ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828800" y="4800600"/>
            <a:ext cx="3429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1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438280" y="5851440"/>
            <a:ext cx="1371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60199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152280" y="6629400"/>
            <a:ext cx="22100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2:12:45Z</dcterms:created>
  <dc:creator>Administrator</dc:creator>
  <dc:description/>
  <dc:language>en-US</dc:language>
  <cp:lastModifiedBy>Home</cp:lastModifiedBy>
  <dcterms:modified xsi:type="dcterms:W3CDTF">2010-11-14T16:39:45Z</dcterms:modified>
  <cp:revision>16</cp:revision>
  <dc:subject/>
  <dc:title>Order of Operations</dc:title>
</cp:coreProperties>
</file>